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CE6F-8E07-4F1B-B416-5B186E285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2C84-E925-4E87-957B-9560C6A6840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E70E-0661-46E0-B94D-091A6EF3378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84CA-B03A-44FB-989C-C312600469B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021A-49A4-46D9-82C8-A93DFF5018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B627-66C5-435A-AD7B-0E9537EF4AF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05EA-8047-4602-90E1-C51ED9B85B9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1B5D-32BD-4B40-8B1C-4305DF328BD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C331-9994-4A64-9400-2352A3183A5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7698-BD93-484F-8246-A7DA78CC75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C5A7-48DB-4BC1-A11E-DD3F5AAE6B7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D542B-1462-4B42-9ACD-FBB33B53D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CAAA68-6C3B-4171-A109-92ED6D011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BB26F9-0CC7-40F7-9B9A-6AD79739E9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375FB8-B8B4-4029-8D04-E9E2ED6BB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8CBE8-F470-4F80-9F06-F750E40B6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8957A-BB09-4E60-811D-90FD8B7AB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17026-42AF-408A-903B-9EF7E212B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A6D6D-FB66-428B-AA16-DC60431ED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16903-475C-4B3B-B68A-6F6D011FA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331C2-F07F-423F-BD9D-31C4AB712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55D67-FB89-449A-9E27-2F65AD4EF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4C6FB3-9A01-42D1-B2D2-043C5C74F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47181-4726-4697-8A70-ACC76C424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3DD3-03F1-4722-B33D-DF89AFB7F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6DBF0-6703-4D55-8EC0-1BF866AD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40E59-E6E5-4A65-A321-820254F9B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8E69E-DD41-4B7F-AED4-FCF8E0AB9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BAB95A-BB5C-48C4-B310-64F7DB769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DAE62-47C1-473D-8439-3ABF0ED35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1A2EB7-DC61-4755-82C4-1509214F2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F01EE6-079D-4703-B268-88BF9EEE3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4C042-7A02-44E0-A841-F4256BE64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1F435-8897-4C03-A2E8-436795602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23D88-C24D-472A-98F3-66A2045055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D430-3F9A-4C78-B707-275A55397D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4DAF-C360-4B1E-A724-A9CB538B47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What does “Non Standard English” mean?</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ording to Wolfram Et Schilling-Estes, Vernacular or nonstandard varieties are those ”varieties of a language that are not classified as standard dialects’ ” (3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564920"/>
            <a:ext cx="8229600" cy="4530600"/>
          </a:xfrm>
          <a:prstGeom prst="rect">
            <a:avLst/>
          </a:prstGeom>
          <a:noFill/>
          <a:ln w="0">
            <a:noFill/>
          </a:ln>
        </p:spPr>
        <p:txBody>
          <a:bodyPr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students move between the two language systems by teaching students to codeswitch. In this way, you are empowering your students and showing them how to use the tools they already possess.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educator, holding up Standard English as the right language and AAVE as the “inferior” or “wrong” can negatively impact students.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ing AAVE students the grammar, structure, and history of AAVE can evoke pride in their language, which can cause increase in school performance. </a:t>
            </a:r>
            <a:endParaRPr b="0" lang="en-US" sz="2800" spc="-1" strike="noStrike">
              <a:solidFill>
                <a:srgbClr val="ffffff"/>
              </a:solidFill>
              <a:latin typeface="Tahoma"/>
            </a:endParaRPr>
          </a:p>
        </p:txBody>
      </p:sp>
      <p:sp>
        <p:nvSpPr>
          <p:cNvPr id="151" name="Rectangle 4"/>
          <p:cNvSpPr/>
          <p:nvPr/>
        </p:nvSpPr>
        <p:spPr>
          <a:xfrm>
            <a:off x="457200" y="270000"/>
            <a:ext cx="8229600" cy="140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can be don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standard English?</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Wolfram Et Schilling-Estes, “the </a:t>
            </a:r>
            <a:r>
              <a:rPr b="0" i="1" lang="en-US" sz="3200" spc="-1" strike="noStrike">
                <a:solidFill>
                  <a:srgbClr val="ffffff"/>
                </a:solidFill>
                <a:latin typeface="Tahoma"/>
              </a:rPr>
              <a:t>standard </a:t>
            </a:r>
            <a:r>
              <a:rPr b="0" lang="en-US" sz="3200" spc="-1" strike="noStrike">
                <a:solidFill>
                  <a:srgbClr val="ffffff"/>
                </a:solidFill>
                <a:latin typeface="Tahoma"/>
              </a:rPr>
              <a:t>is the language variety ‘associated with middle-class, educated, native speakers of the region’ ” (305).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a dialect? </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ccording to Wolfram Et Schiling-Estes, “A </a:t>
            </a:r>
            <a:r>
              <a:rPr b="0" i="1" lang="en-US" sz="2800" spc="-1" strike="noStrike">
                <a:solidFill>
                  <a:srgbClr val="ffffff"/>
                </a:solidFill>
                <a:latin typeface="Tahoma"/>
              </a:rPr>
              <a:t>dialect </a:t>
            </a:r>
            <a:r>
              <a:rPr b="0" lang="en-US" sz="2800" spc="-1" strike="noStrike">
                <a:solidFill>
                  <a:srgbClr val="ffffff"/>
                </a:solidFill>
                <a:latin typeface="Tahoma"/>
              </a:rPr>
              <a:t>is a ‘variety of the language associated with a particular regional or social group, everyone speaks a dialect” (305).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lects vary in structure (sound, vocabulary, grammar, and social conventions for structuring conversations) on the basis of the speakers’ “age, socioeconomic status, gender, ethnic group membership, and geographic region” (30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AAVE?</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an acronym for African American Vernacular English.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nacular or nonstandard varieties are those “varieties of a language that are not classified as standard dialects” (305).</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socially stigmatized features such as the so called English double negative “I ain’t got none” or irregular verb forms “I seen it” (305).</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Code-Switching?</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0" i="1" lang="en-US" sz="3200" spc="-1" strike="noStrike">
                <a:solidFill>
                  <a:srgbClr val="ffffff"/>
                </a:solidFill>
                <a:latin typeface="Tahoma"/>
              </a:rPr>
              <a:t>codeswitch</a:t>
            </a:r>
            <a:r>
              <a:rPr b="0" lang="en-US" sz="3200" spc="-1" strike="noStrike">
                <a:solidFill>
                  <a:srgbClr val="ffffff"/>
                </a:solidFill>
                <a:latin typeface="Tahoma"/>
              </a:rPr>
              <a:t> is to choose the pattern of language appriate to the context chosen by </a:t>
            </a:r>
            <a:r>
              <a:rPr b="0" lang="en-US" sz="3200" spc="-1" strike="noStrike" u="sng">
                <a:solidFill>
                  <a:srgbClr val="ffffff"/>
                </a:solidFill>
                <a:uFillTx/>
                <a:latin typeface="Tahoma"/>
              </a:rPr>
              <a:t>any given-individual</a:t>
            </a:r>
            <a:r>
              <a:rPr b="0" lang="en-US" sz="3200" spc="-1" strike="noStrike">
                <a:solidFill>
                  <a:srgbClr val="ffffff"/>
                </a:solidFill>
                <a:latin typeface="Tahoma"/>
              </a:rPr>
              <a:t> to fit the appropriate time, place, audience, and communicative purpose,” i.e. way one speaks at home, office, hospital, marketpla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nguistics News</a:t>
            </a:r>
            <a:endParaRPr b="0" lang="en-US" sz="4200" spc="-1" strike="noStrike">
              <a:solidFill>
                <a:srgbClr val="ffffcc"/>
              </a:solidFill>
              <a:latin typeface="Tahoma"/>
            </a:endParaRPr>
          </a:p>
        </p:txBody>
      </p:sp>
      <p:sp>
        <p:nvSpPr>
          <p:cNvPr id="144" name="PlaceHolder 2"/>
          <p:cNvSpPr>
            <a:spLocks noGrp="1"/>
          </p:cNvSpPr>
          <p:nvPr>
            <p:ph/>
          </p:nvPr>
        </p:nvSpPr>
        <p:spPr>
          <a:xfrm>
            <a:off x="457200" y="1600200"/>
            <a:ext cx="8305920" cy="45720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N.F.H.A (Nation Fair Housing Alliance) Press Releas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F.H.A. conducted tests over the telephone to determine what both African American and White home seekers were told about unit availability, rent, discounts and other terms and conditions of apartment leasing (293).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4">
                                            <p:txEl>
                                              <p:pRg st="1" end="1"/>
                                            </p:txEl>
                                          </p:spTgt>
                                        </p:tgtEl>
                                        <p:attrNameLst>
                                          <p:attrName>style.visibility</p:attrName>
                                        </p:attrNameLst>
                                      </p:cBhvr>
                                      <p:to>
                                        <p:strVal val="visible"/>
                                      </p:to>
                                    </p:set>
                                    <p:anim calcmode="lin" valueType="num">
                                      <p:cBhvr additive="base">
                                        <p:cTn id="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66 percent of these tests – 43 of 65 instances- White callers were favored over African-American call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rican-American callers did not provide ethnic or racial information during phone ca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F.H.A. tests show a correlation between the dialect of African-Americans and discrimination on the part of the real estate industry.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AVE Facts</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VE is a dialect that is spoken by African-American across the 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V.E follows a highly structured grammar system.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not lazy English, according to Linguist John Rickford.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of AAVE often codeswitch and are considered biling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 the classroom</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mportant quote for all teachers to remember: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t can be very damaging human experience for an AAVE-speaking child to learn mainstream American English while the teacher dismisses AAVE as broken or error-filled” (Wolfram, 1999, p.78). “Codeswitching: Tools of Language and culture Transform the Dialectally Diverse Classroom” Swords, Rache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3:49:10Z</dcterms:created>
  <dc:creator>cristian godinez</dc:creator>
  <dc:description/>
  <dc:language>en-US</dc:language>
  <cp:lastModifiedBy>Melissa Comer</cp:lastModifiedBy>
  <dcterms:modified xsi:type="dcterms:W3CDTF">2009-05-21T05:01:07Z</dcterms:modified>
  <cp:revision>3</cp:revision>
  <dc:subject/>
  <dc:title>What does “Non Standard English” mean?</dc:title>
</cp:coreProperties>
</file>